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0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dt" idx="15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 type="ftr" idx="16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 type="sldNum" idx="17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B55CF-7FA3-4EF2-B0DB-EBC4C6AC1177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Foliennummernplatzhalt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B2E24-98A4-413B-888D-A82488FFB22D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A4A6-9294-44F2-8AF1-8192D21ED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F045-6BF5-430F-8950-80C3C0D25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430650-C69C-41C4-B10E-FB88849744C9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DAD3A5-5BF4-4C48-B448-2CAB25D9E91D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A917CE-9448-454C-B638-E8944220A71B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D55DD6-FA89-413C-94C7-8B7B3C9037ED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BAB4C4-B7B5-4F43-897D-A7B295B5DE06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B2A42C-8118-4F3B-BBE3-25B56A8C763C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BF942E-CAFB-4F15-92D6-A472C2860A8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5F9B6F-CC6E-4E5D-8271-EF3633F8D025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C660E3-7703-4F4E-9E53-2399C46C2617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2F276-6D58-4C16-AD8D-FCACC548C6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5D39-BCF3-4E82-AA70-F37AC2AAE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5959B-D837-4264-A560-39310D3C5CF9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54CCC3-8731-4E1B-8D87-98049EEABFF8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8D830-F61D-4368-9729-22FA995DF98E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BC4C5-4FF9-4C26-8304-5A2799C4F29C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FC907-8833-4CE7-82A9-302891E36C8A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E59D43-197D-46F6-ACE1-5CF10EA27C7C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36269-6941-4DEA-ABD3-4068B0413D6A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93AB1-270D-416F-B001-F6676EB4D3ED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AF9DD-82F3-4880-9D60-2324ABAD3B82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2E640-61D4-4032-ADEC-9EB6380D25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7FFD-5CF1-48AD-92CE-C2C2662C3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52A51-75F9-476A-94A7-E59C41898712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4B517A6-2DEB-44A7-86BA-70876367250B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FDFF896-F25C-49FD-BEA2-0CF079F0723F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68199BB-C546-4415-874B-107B3015426F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BF45F49-FDEA-4FE5-A434-E736F926C09D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E481DF4-F61B-4AD8-B921-8E5B3B0A8D42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D0FD387-F392-47AA-BCCE-8E90F029BBD9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6439F06-3E65-4817-95AD-823315318E34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2E405AC-5CA2-4BB8-9BE0-CC9C8BDBEA2A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C2ED387-71A3-4C67-8860-995C9157DC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7D7C7E-9351-4F26-A76C-9C0E9276575D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8ADF367-08B7-4B28-930F-16B63406F7E3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B6390FF-CBB7-4C70-8A75-92B0B09806D5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F2E3851-EE6B-4A0B-9EB9-842884018EA0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F881B7-506A-40C3-8514-0998DCA2D3AB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3655D1-13C8-4A21-90AD-BAA2F1B15968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66A2F8-50AE-4A95-9632-5F2B4D1EB4BB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3D4DB9-BD57-4E90-A921-8964F836E7E0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4C3477-9765-4D77-BF14-318C0D1D0D07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8DA5BF-981E-449E-9B05-02F5984DE169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838F98-CFA3-4CB1-BA95-A5C37CED753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99D719-3A38-4542-B9A7-99EF8A214E74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998AB9-A10C-4893-92DF-D307AA7A76D4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F84D5B-9D68-4141-A905-ED685869310A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B5EA12-CFF7-4208-B5BA-76940C4ABD0A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35F00F-A600-4341-B648-68ABEB7F9213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2972F5-CE96-42C2-BCE9-CD928E1CF0B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73E47A-0C86-4638-A61D-099BC2623BD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BA382A-33B8-4738-A6C4-1483C9C5054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7BECF6-26EA-4EAB-9667-6ABE0986D25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28E60D-7991-4D09-A4CD-10694D36195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117F96-73AE-4E61-AE93-3D5140D7B5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233D-7056-46CC-B261-3CC5173A3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25663D-2ED4-4863-A2FC-F2183F47629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868605-F014-46F0-AF72-D0EB8084DD4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1E390E-C174-41F6-BAB8-001B4470FBC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26B02C-C35A-428C-A37C-37C7276F71A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3B3491-59F2-4E4F-9279-DFD7BDA5340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C80026-2D41-4762-8687-46E630A9931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D461A5-E7B8-47A6-8D27-57D0F1160FB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5F4F9C-E12E-4D7B-A2BB-3DE3AAF9549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7A43DB-3E79-47C7-9D8F-2AF65263EBA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5B84DE-6B10-4302-ABE4-FF5300B33E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CC15-168A-471B-B5E1-6B2320774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565937-9DA6-4A4A-855D-D4E2BBDAE1E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BC9530-014A-4D90-B95E-D5DEA43846A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353642-81C8-4B9B-9905-401BE5D3DF0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0E1D54-FC90-40E1-A658-D91D8BC0AED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DE5633-0060-420A-8AC5-7420642CBA7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48D8C2-479A-4FCA-B60E-35F72E132D6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AF2E80-B343-4308-9C6C-B3B78FED29C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D9780-8FBD-4711-B093-A4030C8387A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73D62-1FC1-4710-A6D9-980D0DB81C3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7E910-5C18-4B2C-B31A-7A6F11E5F3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4370-892B-4E34-8D04-CC78058FE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B4C87-F759-42EA-98F9-91CBA886750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8D224-BC87-46DD-B6B9-C767BA7FCCE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88731-74A7-47E5-B46D-CFA0B61B071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57748-1FCF-4045-B3A1-597F29C0C0B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3D980-D244-407A-AD84-A3B6EB0F4F6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86C22-903C-4725-AB8E-2400F154218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9BB5C-5FE8-4CD9-B932-D2062F3A654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F80FC-C767-4B6C-8A2C-0448EC5F3EF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A0C1C-B8AF-4913-8125-438BC95D870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459D2B-442B-4E20-B760-1F06B31577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3C40-01F3-4B9E-A6C7-3DDEC929C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42C18A-BE17-4DB4-A282-9F05F7C9CB7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8A1A24-ABFB-4D98-8E41-867464DCDF8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E97EF0-38E3-483B-B097-7C652C7B3DC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DA230E-D4FB-4A07-A539-2DC17F1EC43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D4FC0A-E0C6-4D6E-B6F8-CDEBA1EBB0B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62D35C-BAF1-4791-94CA-9575D63B481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5EFA7E-D069-439E-B713-39C6A491E92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80D941-4892-4D9C-B79A-447246F36D1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165C72-3DE2-49CD-AB6A-57A9D907DC0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0B778A-8762-4253-8807-26B9E953D7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A42E-460D-476C-A930-82E129B30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03B600-80DF-456A-B99A-814B2C12A9EA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7908EB-3024-4AC5-8727-00B41F8760C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94B286-C668-4679-81BA-AC721AF1BAF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5D0C35-2701-47AC-A34F-557FCBC3FF4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859664-2996-449B-BBDB-FF049A0607F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6EC239-FE30-49F5-915A-5BCB4DD8A05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89B7CC-81BA-4FFB-9959-68D64A93A06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045E0B-2223-4D44-9A30-0D98BCB6927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B030DD-A1D1-4CEB-A621-9339E18589C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F04D9F-F96B-4A8A-B39C-E0A6DADBB7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C75D-0CE7-4938-8D69-6282E2613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18D0DA-EC4B-4B58-B748-7678F3C2218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B501C5-7CA3-4C9C-BF66-6A8A13C18F1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968E8F-4332-4776-A5E7-4E4CA7894C1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601D1-7C8E-43A0-B0D6-DC83785AE41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7E50B-E147-4FF7-BAC5-65495E9AEA5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83D56-4B39-4109-AA39-CEE506F7F47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F4561-D466-48A8-90D5-C774510E178E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1B436-414D-43AE-A4F3-D9D28F64397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2AFF2-592C-457A-8AA3-623344790C6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E39CF-4C23-4526-B80A-4D23727D5C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1213-15FD-44E6-9F1F-2605F4872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E61D6-E41F-42E0-83E6-2903BB5F4E4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33417-E7B6-499E-9B1C-E1E06C59C843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A7A1B-560C-4A62-8893-C88C7435F56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307F2-695D-479E-963F-25D4875A2CD6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F97A7-EB47-4144-B888-EC5F694FBAF7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DE3F19-FF99-4A06-8BE9-1F0BA6B52A73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FD2A09-E257-469C-A640-A962C5BAC6F7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C182C3-4C05-448E-8B5B-9E0DD6AD609D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1BB692-32A4-414A-8E08-ADC42BB74FAA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89C0F3-B7C2-438F-8864-48935646F6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107C-8FD0-48E3-951E-9DEC4C65D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EF4AE2-A241-4769-A4E1-8199C33031C8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B91D7B-275F-4C37-8096-E7B56FB0DF1F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B174CF-B004-4622-95C7-6137F120ECC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867F24-4BE1-4004-81A8-9BC1DAC16A9D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B97260-566C-437E-A543-A68F1D91889F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B528CC-FB3D-4580-A61B-CE23BB74CB88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2266E1-BCF0-44BC-BB82-1B54F840E4A5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F8180D-1636-4267-BC02-7AEC10892F8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35B656-A596-46EA-BCEB-CF5EA80EB870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62B867-B65F-42D0-A43D-989243A055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BC0B2-ABF2-48E0-B252-351B47C31BC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0F42B-3105-4CDA-B886-DC86A307E92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12"/>
          <p:cNvSpPr/>
          <p:nvPr/>
        </p:nvSpPr>
        <p:spPr>
          <a:xfrm>
            <a:off x="2050920" y="4329000"/>
            <a:ext cx="680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Rectangle 13"/>
          <p:cNvSpPr/>
          <p:nvPr/>
        </p:nvSpPr>
        <p:spPr>
          <a:xfrm>
            <a:off x="1836720" y="4221000"/>
            <a:ext cx="680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Rectangle 14"/>
          <p:cNvSpPr/>
          <p:nvPr/>
        </p:nvSpPr>
        <p:spPr>
          <a:xfrm>
            <a:off x="1979640" y="4329000"/>
            <a:ext cx="680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6" name="Picture 16" descr="Logo"/>
          <p:cNvPicPr/>
          <p:nvPr/>
        </p:nvPicPr>
        <p:blipFill>
          <a:blip r:embed="rId2"/>
          <a:stretch/>
        </p:blipFill>
        <p:spPr>
          <a:xfrm>
            <a:off x="0" y="0"/>
            <a:ext cx="1619280" cy="906480"/>
          </a:xfrm>
          <a:prstGeom prst="rect">
            <a:avLst/>
          </a:prstGeom>
          <a:ln w="0">
            <a:noFill/>
          </a:ln>
        </p:spPr>
      </p:pic>
      <p:sp>
        <p:nvSpPr>
          <p:cNvPr id="397" name="Text Box 17"/>
          <p:cNvSpPr/>
          <p:nvPr/>
        </p:nvSpPr>
        <p:spPr>
          <a:xfrm>
            <a:off x="371160" y="6296040"/>
            <a:ext cx="1287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ee7f00"/>
                </a:solidFill>
                <a:latin typeface="Tahoma"/>
              </a:rPr>
              <a:t>www.auma.d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800360" y="328320"/>
            <a:ext cx="69120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ab3"/>
                </a:solidFill>
                <a:latin typeface="Tahoma"/>
              </a:rPr>
              <a:t>Click to edit the title text format</a:t>
            </a:r>
            <a:endParaRPr b="1" lang="en-US" sz="1700" spc="-1" strike="noStrike">
              <a:solidFill>
                <a:srgbClr val="006ab3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1800360" y="1267920"/>
            <a:ext cx="6912000" cy="47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buSzPct val="102985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sldNum" idx="12"/>
          </p:nvPr>
        </p:nvSpPr>
        <p:spPr>
          <a:xfrm>
            <a:off x="7848720" y="6308640"/>
            <a:ext cx="83808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5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66D8C-A385-4A3A-8671-21CC0CE3DA82}" type="slidenum">
              <a:rPr b="0" lang="de-DE" sz="15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12"/>
          <p:cNvSpPr/>
          <p:nvPr/>
        </p:nvSpPr>
        <p:spPr>
          <a:xfrm>
            <a:off x="2050920" y="4329000"/>
            <a:ext cx="680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Rectangle 13"/>
          <p:cNvSpPr/>
          <p:nvPr/>
        </p:nvSpPr>
        <p:spPr>
          <a:xfrm>
            <a:off x="1836720" y="4221000"/>
            <a:ext cx="680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Rectangle 14"/>
          <p:cNvSpPr/>
          <p:nvPr/>
        </p:nvSpPr>
        <p:spPr>
          <a:xfrm>
            <a:off x="1979640" y="4329000"/>
            <a:ext cx="680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0" name="Picture 16" descr="Logo"/>
          <p:cNvPicPr/>
          <p:nvPr/>
        </p:nvPicPr>
        <p:blipFill>
          <a:blip r:embed="rId2"/>
          <a:stretch/>
        </p:blipFill>
        <p:spPr>
          <a:xfrm>
            <a:off x="0" y="0"/>
            <a:ext cx="1619280" cy="906480"/>
          </a:xfrm>
          <a:prstGeom prst="rect">
            <a:avLst/>
          </a:prstGeom>
          <a:ln w="0">
            <a:noFill/>
          </a:ln>
        </p:spPr>
      </p:pic>
      <p:sp>
        <p:nvSpPr>
          <p:cNvPr id="441" name="Text Box 17"/>
          <p:cNvSpPr/>
          <p:nvPr/>
        </p:nvSpPr>
        <p:spPr>
          <a:xfrm>
            <a:off x="371160" y="6296040"/>
            <a:ext cx="1287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ee7f00"/>
                </a:solidFill>
                <a:latin typeface="Tahoma"/>
              </a:rPr>
              <a:t>www.auma.d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800360" y="328320"/>
            <a:ext cx="69120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ab3"/>
                </a:solidFill>
                <a:latin typeface="Tahoma"/>
              </a:rPr>
              <a:t>Click to edit the title text format</a:t>
            </a:r>
            <a:endParaRPr b="1" lang="en-US" sz="1700" spc="-1" strike="noStrike">
              <a:solidFill>
                <a:srgbClr val="006ab3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1800360" y="1267920"/>
            <a:ext cx="6912000" cy="47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buSzPct val="102985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sldNum" idx="13"/>
          </p:nvPr>
        </p:nvSpPr>
        <p:spPr>
          <a:xfrm>
            <a:off x="7848720" y="6308640"/>
            <a:ext cx="83808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5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1963F-CA1C-46D6-BCAF-AF812E4B8F08}" type="slidenum">
              <a:rPr b="0" lang="de-DE" sz="15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12"/>
          <p:cNvSpPr/>
          <p:nvPr/>
        </p:nvSpPr>
        <p:spPr>
          <a:xfrm>
            <a:off x="2050920" y="4329000"/>
            <a:ext cx="680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Rectangle 13"/>
          <p:cNvSpPr/>
          <p:nvPr/>
        </p:nvSpPr>
        <p:spPr>
          <a:xfrm>
            <a:off x="1836720" y="4221000"/>
            <a:ext cx="680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Rectangle 14"/>
          <p:cNvSpPr/>
          <p:nvPr/>
        </p:nvSpPr>
        <p:spPr>
          <a:xfrm>
            <a:off x="1979640" y="4329000"/>
            <a:ext cx="680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4" name="Picture 16" descr="Logo"/>
          <p:cNvPicPr/>
          <p:nvPr/>
        </p:nvPicPr>
        <p:blipFill>
          <a:blip r:embed="rId2"/>
          <a:stretch/>
        </p:blipFill>
        <p:spPr>
          <a:xfrm>
            <a:off x="0" y="0"/>
            <a:ext cx="1619280" cy="906480"/>
          </a:xfrm>
          <a:prstGeom prst="rect">
            <a:avLst/>
          </a:prstGeom>
          <a:ln w="0">
            <a:noFill/>
          </a:ln>
        </p:spPr>
      </p:pic>
      <p:sp>
        <p:nvSpPr>
          <p:cNvPr id="485" name="Text Box 17"/>
          <p:cNvSpPr/>
          <p:nvPr/>
        </p:nvSpPr>
        <p:spPr>
          <a:xfrm>
            <a:off x="371160" y="6296040"/>
            <a:ext cx="1287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ee7f00"/>
                </a:solidFill>
                <a:latin typeface="Tahoma"/>
              </a:rPr>
              <a:t>www.auma.d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800360" y="328320"/>
            <a:ext cx="69120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ab3"/>
                </a:solidFill>
                <a:latin typeface="Tahoma"/>
              </a:rPr>
              <a:t>Click to edit the title text format</a:t>
            </a:r>
            <a:endParaRPr b="1" lang="en-US" sz="1700" spc="-1" strike="noStrike">
              <a:solidFill>
                <a:srgbClr val="006ab3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1800360" y="1267920"/>
            <a:ext cx="6912000" cy="47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buSzPct val="102985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sldNum" idx="14"/>
          </p:nvPr>
        </p:nvSpPr>
        <p:spPr>
          <a:xfrm>
            <a:off x="7848720" y="6308640"/>
            <a:ext cx="83808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5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D51D9-00A6-4ED9-AF5F-E1031D044E25}" type="slidenum">
              <a:rPr b="0" lang="de-DE" sz="15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00360" y="328320"/>
            <a:ext cx="69120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ab3"/>
                </a:solidFill>
                <a:latin typeface="Tahoma"/>
              </a:rPr>
              <a:t>Click to edit the title text format</a:t>
            </a:r>
            <a:endParaRPr b="1" lang="en-US" sz="1700" spc="-1" strike="noStrike">
              <a:solidFill>
                <a:srgbClr val="006ab3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800360" y="1267920"/>
            <a:ext cx="6912000" cy="47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buSzPct val="102985"/>
              <a:buBlip>
                <a:blip r:embed="rId2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Rectangle 12"/>
          <p:cNvSpPr/>
          <p:nvPr/>
        </p:nvSpPr>
        <p:spPr>
          <a:xfrm>
            <a:off x="2050920" y="4329000"/>
            <a:ext cx="680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13"/>
          <p:cNvSpPr/>
          <p:nvPr/>
        </p:nvSpPr>
        <p:spPr>
          <a:xfrm>
            <a:off x="1836720" y="4221000"/>
            <a:ext cx="680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14"/>
          <p:cNvSpPr/>
          <p:nvPr/>
        </p:nvSpPr>
        <p:spPr>
          <a:xfrm>
            <a:off x="1979640" y="4329000"/>
            <a:ext cx="680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6" descr="Logo"/>
          <p:cNvPicPr/>
          <p:nvPr/>
        </p:nvPicPr>
        <p:blipFill>
          <a:blip r:embed="rId3"/>
          <a:stretch/>
        </p:blipFill>
        <p:spPr>
          <a:xfrm>
            <a:off x="0" y="0"/>
            <a:ext cx="1619280" cy="9064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7"/>
          <p:cNvSpPr/>
          <p:nvPr/>
        </p:nvSpPr>
        <p:spPr>
          <a:xfrm>
            <a:off x="371160" y="6296040"/>
            <a:ext cx="1287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ee7f00"/>
                </a:solidFill>
                <a:latin typeface="Tahoma"/>
              </a:rPr>
              <a:t>www.auma.d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4"/>
          </p:nvPr>
        </p:nvSpPr>
        <p:spPr>
          <a:xfrm>
            <a:off x="7848720" y="6308640"/>
            <a:ext cx="83808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5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4E748-DB3E-44D1-BF12-7701F111FA75}" type="slidenum">
              <a:rPr b="0" lang="de-DE" sz="15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2"/>
          <p:cNvSpPr/>
          <p:nvPr/>
        </p:nvSpPr>
        <p:spPr>
          <a:xfrm>
            <a:off x="2050920" y="4329000"/>
            <a:ext cx="680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13"/>
          <p:cNvSpPr/>
          <p:nvPr/>
        </p:nvSpPr>
        <p:spPr>
          <a:xfrm>
            <a:off x="1836720" y="4221000"/>
            <a:ext cx="680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14"/>
          <p:cNvSpPr/>
          <p:nvPr/>
        </p:nvSpPr>
        <p:spPr>
          <a:xfrm>
            <a:off x="1979640" y="4329000"/>
            <a:ext cx="680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16" descr="Logo"/>
          <p:cNvPicPr/>
          <p:nvPr/>
        </p:nvPicPr>
        <p:blipFill>
          <a:blip r:embed="rId2"/>
          <a:stretch/>
        </p:blipFill>
        <p:spPr>
          <a:xfrm>
            <a:off x="0" y="0"/>
            <a:ext cx="1619280" cy="9064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7"/>
          <p:cNvSpPr/>
          <p:nvPr/>
        </p:nvSpPr>
        <p:spPr>
          <a:xfrm>
            <a:off x="371160" y="6296040"/>
            <a:ext cx="1287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ee7f00"/>
                </a:solidFill>
                <a:latin typeface="Tahoma"/>
              </a:rPr>
              <a:t>www.auma.d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00360" y="328320"/>
            <a:ext cx="69120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ab3"/>
                </a:solidFill>
                <a:latin typeface="Tahoma"/>
              </a:rPr>
              <a:t>Click to edit the title text format</a:t>
            </a:r>
            <a:endParaRPr b="1" lang="en-US" sz="1700" spc="-1" strike="noStrike">
              <a:solidFill>
                <a:srgbClr val="006ab3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800360" y="1267920"/>
            <a:ext cx="6912000" cy="47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buSzPct val="102985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5"/>
          </p:nvPr>
        </p:nvSpPr>
        <p:spPr>
          <a:xfrm>
            <a:off x="7848720" y="6308640"/>
            <a:ext cx="83808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5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4E717-91C7-4FF3-92D9-34EC05BD8FFE}" type="slidenum">
              <a:rPr b="0" lang="de-DE" sz="15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2"/>
          <p:cNvSpPr/>
          <p:nvPr/>
        </p:nvSpPr>
        <p:spPr>
          <a:xfrm>
            <a:off x="2050920" y="4329000"/>
            <a:ext cx="680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1836720" y="4221000"/>
            <a:ext cx="680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14"/>
          <p:cNvSpPr/>
          <p:nvPr/>
        </p:nvSpPr>
        <p:spPr>
          <a:xfrm>
            <a:off x="1979640" y="4329000"/>
            <a:ext cx="680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16" descr="Logo"/>
          <p:cNvPicPr/>
          <p:nvPr/>
        </p:nvPicPr>
        <p:blipFill>
          <a:blip r:embed="rId2"/>
          <a:stretch/>
        </p:blipFill>
        <p:spPr>
          <a:xfrm>
            <a:off x="0" y="0"/>
            <a:ext cx="1619280" cy="90648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17"/>
          <p:cNvSpPr/>
          <p:nvPr/>
        </p:nvSpPr>
        <p:spPr>
          <a:xfrm>
            <a:off x="371160" y="6296040"/>
            <a:ext cx="1287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ee7f00"/>
                </a:solidFill>
                <a:latin typeface="Tahoma"/>
              </a:rPr>
              <a:t>www.auma.d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800360" y="328320"/>
            <a:ext cx="69120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ab3"/>
                </a:solidFill>
                <a:latin typeface="Tahoma"/>
              </a:rPr>
              <a:t>Click to edit the title text format</a:t>
            </a:r>
            <a:endParaRPr b="1" lang="en-US" sz="1700" spc="-1" strike="noStrike">
              <a:solidFill>
                <a:srgbClr val="006ab3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800360" y="1267920"/>
            <a:ext cx="6912000" cy="47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buSzPct val="102985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sldNum" idx="6"/>
          </p:nvPr>
        </p:nvSpPr>
        <p:spPr>
          <a:xfrm>
            <a:off x="7848720" y="6308640"/>
            <a:ext cx="83808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5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28DB3-9BC2-4868-BCFB-FD112974C668}" type="slidenum">
              <a:rPr b="0" lang="de-DE" sz="15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12"/>
          <p:cNvSpPr/>
          <p:nvPr/>
        </p:nvSpPr>
        <p:spPr>
          <a:xfrm>
            <a:off x="2050920" y="4329000"/>
            <a:ext cx="680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1836720" y="4221000"/>
            <a:ext cx="680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 14"/>
          <p:cNvSpPr/>
          <p:nvPr/>
        </p:nvSpPr>
        <p:spPr>
          <a:xfrm>
            <a:off x="1979640" y="4329000"/>
            <a:ext cx="680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16" descr="Logo"/>
          <p:cNvPicPr/>
          <p:nvPr/>
        </p:nvPicPr>
        <p:blipFill>
          <a:blip r:embed="rId2"/>
          <a:stretch/>
        </p:blipFill>
        <p:spPr>
          <a:xfrm>
            <a:off x="0" y="0"/>
            <a:ext cx="1619280" cy="90648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17"/>
          <p:cNvSpPr/>
          <p:nvPr/>
        </p:nvSpPr>
        <p:spPr>
          <a:xfrm>
            <a:off x="371160" y="6296040"/>
            <a:ext cx="1287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ee7f00"/>
                </a:solidFill>
                <a:latin typeface="Tahoma"/>
              </a:rPr>
              <a:t>www.auma.d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800360" y="328320"/>
            <a:ext cx="69120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ab3"/>
                </a:solidFill>
                <a:latin typeface="Tahoma"/>
              </a:rPr>
              <a:t>Click to edit the title text format</a:t>
            </a:r>
            <a:endParaRPr b="1" lang="en-US" sz="1700" spc="-1" strike="noStrike">
              <a:solidFill>
                <a:srgbClr val="006ab3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1800360" y="1267920"/>
            <a:ext cx="6912000" cy="47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buSzPct val="102985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sldNum" idx="7"/>
          </p:nvPr>
        </p:nvSpPr>
        <p:spPr>
          <a:xfrm>
            <a:off x="7848720" y="6308640"/>
            <a:ext cx="83808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5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55D6A-C984-4CF5-B600-1F5C29E52EF8}" type="slidenum">
              <a:rPr b="0" lang="de-DE" sz="15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12"/>
          <p:cNvSpPr/>
          <p:nvPr/>
        </p:nvSpPr>
        <p:spPr>
          <a:xfrm>
            <a:off x="2050920" y="4329000"/>
            <a:ext cx="680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ectangle 13"/>
          <p:cNvSpPr/>
          <p:nvPr/>
        </p:nvSpPr>
        <p:spPr>
          <a:xfrm>
            <a:off x="1836720" y="4221000"/>
            <a:ext cx="680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14"/>
          <p:cNvSpPr/>
          <p:nvPr/>
        </p:nvSpPr>
        <p:spPr>
          <a:xfrm>
            <a:off x="1979640" y="4329000"/>
            <a:ext cx="680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Picture 16" descr="Logo"/>
          <p:cNvPicPr/>
          <p:nvPr/>
        </p:nvPicPr>
        <p:blipFill>
          <a:blip r:embed="rId2"/>
          <a:stretch/>
        </p:blipFill>
        <p:spPr>
          <a:xfrm>
            <a:off x="0" y="0"/>
            <a:ext cx="1619280" cy="90648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17"/>
          <p:cNvSpPr/>
          <p:nvPr/>
        </p:nvSpPr>
        <p:spPr>
          <a:xfrm>
            <a:off x="371160" y="6296040"/>
            <a:ext cx="1287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ee7f00"/>
                </a:solidFill>
                <a:latin typeface="Tahoma"/>
              </a:rPr>
              <a:t>www.auma.d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800360" y="328320"/>
            <a:ext cx="69120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ab3"/>
                </a:solidFill>
                <a:latin typeface="Tahoma"/>
              </a:rPr>
              <a:t>Click to edit the title text format</a:t>
            </a:r>
            <a:endParaRPr b="1" lang="en-US" sz="1700" spc="-1" strike="noStrike">
              <a:solidFill>
                <a:srgbClr val="006ab3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800360" y="1267920"/>
            <a:ext cx="6912000" cy="47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buSzPct val="102985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sldNum" idx="8"/>
          </p:nvPr>
        </p:nvSpPr>
        <p:spPr>
          <a:xfrm>
            <a:off x="7848720" y="6308640"/>
            <a:ext cx="83808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5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76256-7463-4B76-8571-754E8993CB38}" type="slidenum">
              <a:rPr b="0" lang="de-DE" sz="15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12"/>
          <p:cNvSpPr/>
          <p:nvPr/>
        </p:nvSpPr>
        <p:spPr>
          <a:xfrm>
            <a:off x="2050920" y="4329000"/>
            <a:ext cx="680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13"/>
          <p:cNvSpPr/>
          <p:nvPr/>
        </p:nvSpPr>
        <p:spPr>
          <a:xfrm>
            <a:off x="1836720" y="4221000"/>
            <a:ext cx="680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Rectangle 14"/>
          <p:cNvSpPr/>
          <p:nvPr/>
        </p:nvSpPr>
        <p:spPr>
          <a:xfrm>
            <a:off x="1979640" y="4329000"/>
            <a:ext cx="680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4" name="Picture 16" descr="Logo"/>
          <p:cNvPicPr/>
          <p:nvPr/>
        </p:nvPicPr>
        <p:blipFill>
          <a:blip r:embed="rId2"/>
          <a:stretch/>
        </p:blipFill>
        <p:spPr>
          <a:xfrm>
            <a:off x="0" y="0"/>
            <a:ext cx="1619280" cy="90648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17"/>
          <p:cNvSpPr/>
          <p:nvPr/>
        </p:nvSpPr>
        <p:spPr>
          <a:xfrm>
            <a:off x="371160" y="6296040"/>
            <a:ext cx="1287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ee7f00"/>
                </a:solidFill>
                <a:latin typeface="Tahoma"/>
              </a:rPr>
              <a:t>www.auma.d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800360" y="328320"/>
            <a:ext cx="69120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ab3"/>
                </a:solidFill>
                <a:latin typeface="Tahoma"/>
              </a:rPr>
              <a:t>Click to edit the title text format</a:t>
            </a:r>
            <a:endParaRPr b="1" lang="en-US" sz="1700" spc="-1" strike="noStrike">
              <a:solidFill>
                <a:srgbClr val="006ab3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1800360" y="1267920"/>
            <a:ext cx="6912000" cy="47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buSzPct val="102985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sldNum" idx="9"/>
          </p:nvPr>
        </p:nvSpPr>
        <p:spPr>
          <a:xfrm>
            <a:off x="7848720" y="6308640"/>
            <a:ext cx="83808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5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C8AC3-F5F1-48BB-A8AB-8C1B1E610B1E}" type="slidenum">
              <a:rPr b="0" lang="de-DE" sz="15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2"/>
          <p:cNvSpPr/>
          <p:nvPr/>
        </p:nvSpPr>
        <p:spPr>
          <a:xfrm>
            <a:off x="2050920" y="4329000"/>
            <a:ext cx="680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13"/>
          <p:cNvSpPr/>
          <p:nvPr/>
        </p:nvSpPr>
        <p:spPr>
          <a:xfrm>
            <a:off x="1836720" y="4221000"/>
            <a:ext cx="680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14"/>
          <p:cNvSpPr/>
          <p:nvPr/>
        </p:nvSpPr>
        <p:spPr>
          <a:xfrm>
            <a:off x="1979640" y="4329000"/>
            <a:ext cx="680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8" name="Picture 16" descr="Logo"/>
          <p:cNvPicPr/>
          <p:nvPr/>
        </p:nvPicPr>
        <p:blipFill>
          <a:blip r:embed="rId2"/>
          <a:stretch/>
        </p:blipFill>
        <p:spPr>
          <a:xfrm>
            <a:off x="0" y="0"/>
            <a:ext cx="1619280" cy="90648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17"/>
          <p:cNvSpPr/>
          <p:nvPr/>
        </p:nvSpPr>
        <p:spPr>
          <a:xfrm>
            <a:off x="371160" y="6296040"/>
            <a:ext cx="1287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ee7f00"/>
                </a:solidFill>
                <a:latin typeface="Tahoma"/>
              </a:rPr>
              <a:t>www.auma.d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800360" y="328320"/>
            <a:ext cx="69120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ab3"/>
                </a:solidFill>
                <a:latin typeface="Tahoma"/>
              </a:rPr>
              <a:t>Click to edit the title text format</a:t>
            </a:r>
            <a:endParaRPr b="1" lang="en-US" sz="1700" spc="-1" strike="noStrike">
              <a:solidFill>
                <a:srgbClr val="006ab3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1800360" y="1267920"/>
            <a:ext cx="6912000" cy="47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buSzPct val="102985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sldNum" idx="10"/>
          </p:nvPr>
        </p:nvSpPr>
        <p:spPr>
          <a:xfrm>
            <a:off x="7848720" y="6308640"/>
            <a:ext cx="83808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5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0F5E4-678C-4D0C-B4FF-A781DD5BE16B}" type="slidenum">
              <a:rPr b="0" lang="de-DE" sz="15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12"/>
          <p:cNvSpPr/>
          <p:nvPr/>
        </p:nvSpPr>
        <p:spPr>
          <a:xfrm>
            <a:off x="2050920" y="4329000"/>
            <a:ext cx="680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Rectangle 13"/>
          <p:cNvSpPr/>
          <p:nvPr/>
        </p:nvSpPr>
        <p:spPr>
          <a:xfrm>
            <a:off x="1836720" y="4221000"/>
            <a:ext cx="680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Rectangle 14"/>
          <p:cNvSpPr/>
          <p:nvPr/>
        </p:nvSpPr>
        <p:spPr>
          <a:xfrm>
            <a:off x="1979640" y="4329000"/>
            <a:ext cx="680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2" name="Picture 16" descr="Logo"/>
          <p:cNvPicPr/>
          <p:nvPr/>
        </p:nvPicPr>
        <p:blipFill>
          <a:blip r:embed="rId2"/>
          <a:stretch/>
        </p:blipFill>
        <p:spPr>
          <a:xfrm>
            <a:off x="0" y="0"/>
            <a:ext cx="1619280" cy="90648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17"/>
          <p:cNvSpPr/>
          <p:nvPr/>
        </p:nvSpPr>
        <p:spPr>
          <a:xfrm>
            <a:off x="371160" y="6296040"/>
            <a:ext cx="1287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ee7f00"/>
                </a:solidFill>
                <a:latin typeface="Tahoma"/>
              </a:rPr>
              <a:t>www.auma.d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800360" y="328320"/>
            <a:ext cx="6912000" cy="5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6ab3"/>
                </a:solidFill>
                <a:latin typeface="Tahoma"/>
              </a:rPr>
              <a:t>Click to edit the title text format</a:t>
            </a:r>
            <a:endParaRPr b="1" lang="en-US" sz="1700" spc="-1" strike="noStrike">
              <a:solidFill>
                <a:srgbClr val="006ab3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1800360" y="1267920"/>
            <a:ext cx="6912000" cy="478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buSzPct val="102985"/>
              <a:buBlip>
                <a:blip r:embed="rId3"/>
              </a:buBlip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buClr>
                <a:srgbClr val="000000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sldNum" idx="11"/>
          </p:nvPr>
        </p:nvSpPr>
        <p:spPr>
          <a:xfrm>
            <a:off x="7848720" y="6308640"/>
            <a:ext cx="83808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5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D95F8-66B5-47A8-A0DA-0F6E08724491}" type="slidenum">
              <a:rPr b="0" lang="de-DE" sz="15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Grafik 3" descr=""/>
          <p:cNvPicPr/>
          <p:nvPr/>
        </p:nvPicPr>
        <p:blipFill>
          <a:blip r:embed="rId1"/>
          <a:stretch/>
        </p:blipFill>
        <p:spPr>
          <a:xfrm>
            <a:off x="250920" y="203040"/>
            <a:ext cx="1116000" cy="525600"/>
          </a:xfrm>
          <a:prstGeom prst="rect">
            <a:avLst/>
          </a:prstGeom>
          <a:ln w="0">
            <a:noFill/>
          </a:ln>
        </p:spPr>
      </p:pic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1771560" y="1267920"/>
            <a:ext cx="7013520" cy="3961080"/>
          </a:xfrm>
          <a:prstGeom prst="rect">
            <a:avLst/>
          </a:prstGeom>
          <a:solidFill>
            <a:srgbClr val="a5c34f"/>
          </a:solidFill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194382"/>
                </a:solidFill>
                <a:latin typeface="Calibri"/>
              </a:rPr>
              <a:t>Die „neue“ FK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194382"/>
                </a:solidFill>
                <a:latin typeface="Calibri"/>
              </a:rPr>
              <a:t>Nutzen für Aussteller und Veranstal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Textfeld 6"/>
          <p:cNvSpPr/>
          <p:nvPr/>
        </p:nvSpPr>
        <p:spPr>
          <a:xfrm>
            <a:off x="250920" y="620064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a5c34f"/>
                </a:solidFill>
                <a:latin typeface="Calibri"/>
              </a:rPr>
              <a:t>www.fkm.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5" name="Grafik 1" descr=""/>
          <p:cNvPicPr/>
          <p:nvPr/>
        </p:nvPicPr>
        <p:blipFill>
          <a:blip r:embed="rId2"/>
          <a:stretch/>
        </p:blipFill>
        <p:spPr>
          <a:xfrm>
            <a:off x="0" y="870120"/>
            <a:ext cx="9144000" cy="218880"/>
          </a:xfrm>
          <a:prstGeom prst="rect">
            <a:avLst/>
          </a:prstGeom>
          <a:ln w="0">
            <a:noFill/>
          </a:ln>
        </p:spPr>
      </p:pic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1771560" y="44280"/>
            <a:ext cx="6904080" cy="84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94382"/>
                </a:solidFill>
                <a:latin typeface="Calibri"/>
              </a:rPr>
              <a:t>Gesellschaft zur Freiwilligen Kontrolle von </a:t>
            </a:r>
            <a:br>
              <a:rPr sz="1800"/>
            </a:br>
            <a:r>
              <a:rPr b="1" lang="de-DE" sz="1800" spc="-1" strike="noStrike">
                <a:solidFill>
                  <a:srgbClr val="194382"/>
                </a:solidFill>
                <a:latin typeface="Calibri"/>
              </a:rPr>
              <a:t>Messe- und Ausstellungszahl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Rectangle 3"/>
          <p:cNvSpPr/>
          <p:nvPr/>
        </p:nvSpPr>
        <p:spPr>
          <a:xfrm>
            <a:off x="1771560" y="5229360"/>
            <a:ext cx="70135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34960"/>
                <a:tab algn="l" pos="901800"/>
                <a:tab algn="l" pos="1254240"/>
                <a:tab algn="l" pos="1619280"/>
                <a:tab algn="l" pos="1973160"/>
                <a:tab algn="l" pos="2338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4960"/>
                <a:tab algn="l" pos="901800"/>
                <a:tab algn="l" pos="1254240"/>
                <a:tab algn="l" pos="1619280"/>
                <a:tab algn="l" pos="1973160"/>
                <a:tab algn="l" pos="2338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Datu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Rectangle 7"/>
          <p:cNvSpPr/>
          <p:nvPr/>
        </p:nvSpPr>
        <p:spPr>
          <a:xfrm>
            <a:off x="1771560" y="4330800"/>
            <a:ext cx="7013520" cy="898560"/>
          </a:xfrm>
          <a:prstGeom prst="rect">
            <a:avLst/>
          </a:prstGeom>
          <a:solidFill>
            <a:srgbClr val="ffffff"/>
          </a:solidFill>
          <a:ln w="9360">
            <a:solidFill>
              <a:srgbClr val="a5c34f">
                <a:alpha val="9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Titel der Veranstaltu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Grafik 3" descr=""/>
          <p:cNvPicPr/>
          <p:nvPr/>
        </p:nvPicPr>
        <p:blipFill>
          <a:blip r:embed="rId1"/>
          <a:stretch/>
        </p:blipFill>
        <p:spPr>
          <a:xfrm>
            <a:off x="250920" y="203040"/>
            <a:ext cx="1116000" cy="525600"/>
          </a:xfrm>
          <a:prstGeom prst="rect">
            <a:avLst/>
          </a:prstGeom>
          <a:ln w="0">
            <a:noFill/>
          </a:ln>
        </p:spPr>
      </p:pic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771560" y="1267920"/>
            <a:ext cx="70135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Der Veranstalter kann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besser argumentier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mit Fakten überzeugen, anstatt zu überreden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Die FKM hilft dabei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Aussteller zu dauerhaften Kunden zu mach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neue Kunden zu gewinnen, auch durch das Kontaktfeld der AUMA/FKM-Datenbank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Textfeld 6"/>
          <p:cNvSpPr/>
          <p:nvPr/>
        </p:nvSpPr>
        <p:spPr>
          <a:xfrm>
            <a:off x="250920" y="620064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a5c34f"/>
                </a:solidFill>
                <a:latin typeface="Calibri"/>
              </a:rPr>
              <a:t>www.fkm.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4" name="Grafik 1" descr=""/>
          <p:cNvPicPr/>
          <p:nvPr/>
        </p:nvPicPr>
        <p:blipFill>
          <a:blip r:embed="rId2"/>
          <a:stretch/>
        </p:blipFill>
        <p:spPr>
          <a:xfrm>
            <a:off x="9360" y="870120"/>
            <a:ext cx="9144000" cy="218880"/>
          </a:xfrm>
          <a:prstGeom prst="rect">
            <a:avLst/>
          </a:prstGeom>
          <a:ln w="0">
            <a:noFill/>
          </a:ln>
        </p:spPr>
      </p:pic>
      <p:sp>
        <p:nvSpPr>
          <p:cNvPr id="595" name="PlaceHolder 2"/>
          <p:cNvSpPr>
            <a:spLocks noGrp="1"/>
          </p:cNvSpPr>
          <p:nvPr>
            <p:ph type="title"/>
          </p:nvPr>
        </p:nvSpPr>
        <p:spPr>
          <a:xfrm>
            <a:off x="1771560" y="44280"/>
            <a:ext cx="6904080" cy="84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94382"/>
                </a:solidFill>
                <a:latin typeface="Calibri"/>
              </a:rPr>
              <a:t>Nutzen für den Veranstal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Rectangle 9"/>
          <p:cNvSpPr/>
          <p:nvPr/>
        </p:nvSpPr>
        <p:spPr>
          <a:xfrm>
            <a:off x="7848720" y="6308640"/>
            <a:ext cx="838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07ABF-CE9D-4F64-96ED-4580421B2312}" type="slidenum">
              <a:rPr b="0" lang="de-DE" sz="15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Grafik 3" descr=""/>
          <p:cNvPicPr/>
          <p:nvPr/>
        </p:nvPicPr>
        <p:blipFill>
          <a:blip r:embed="rId1"/>
          <a:stretch/>
        </p:blipFill>
        <p:spPr>
          <a:xfrm>
            <a:off x="250920" y="203040"/>
            <a:ext cx="1116000" cy="525600"/>
          </a:xfrm>
          <a:prstGeom prst="rect">
            <a:avLst/>
          </a:prstGeom>
          <a:ln w="0">
            <a:noFill/>
          </a:ln>
        </p:spPr>
      </p:pic>
      <p:sp>
        <p:nvSpPr>
          <p:cNvPr id="598" name="PlaceHolder 1"/>
          <p:cNvSpPr>
            <a:spLocks noGrp="1"/>
          </p:cNvSpPr>
          <p:nvPr>
            <p:ph type="subTitle"/>
          </p:nvPr>
        </p:nvSpPr>
        <p:spPr>
          <a:xfrm>
            <a:off x="1771560" y="1268280"/>
            <a:ext cx="701352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Und das funktioniert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Ja, denn FKM-Dat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sind zuverlässig </a:t>
            </a: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(Zertifizierung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sind vergleichbar </a:t>
            </a: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(einheitliche Definitionen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geben Planungssicherhe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Und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Daten zur Besucherstruktur stehen auf der „Wunschliste“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bei Ausstellern ganz oben </a:t>
            </a:r>
            <a:br>
              <a:rPr sz="1800"/>
            </a:b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(lt. Online-Befragung in der AUMA-Datenbank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Textfeld 6"/>
          <p:cNvSpPr/>
          <p:nvPr/>
        </p:nvSpPr>
        <p:spPr>
          <a:xfrm>
            <a:off x="250920" y="620064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a5c34f"/>
                </a:solidFill>
                <a:latin typeface="Calibri"/>
              </a:rPr>
              <a:t>www.fkm.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0" name="Grafik 1" descr=""/>
          <p:cNvPicPr/>
          <p:nvPr/>
        </p:nvPicPr>
        <p:blipFill>
          <a:blip r:embed="rId2"/>
          <a:stretch/>
        </p:blipFill>
        <p:spPr>
          <a:xfrm>
            <a:off x="9360" y="870120"/>
            <a:ext cx="9144000" cy="218880"/>
          </a:xfrm>
          <a:prstGeom prst="rect">
            <a:avLst/>
          </a:prstGeom>
          <a:ln w="0">
            <a:noFill/>
          </a:ln>
        </p:spPr>
      </p:pic>
      <p:sp>
        <p:nvSpPr>
          <p:cNvPr id="601" name="PlaceHolder 2"/>
          <p:cNvSpPr>
            <a:spLocks noGrp="1"/>
          </p:cNvSpPr>
          <p:nvPr>
            <p:ph type="title"/>
          </p:nvPr>
        </p:nvSpPr>
        <p:spPr>
          <a:xfrm>
            <a:off x="1771560" y="44280"/>
            <a:ext cx="6904080" cy="84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94382"/>
                </a:solidFill>
                <a:latin typeface="Calibri"/>
              </a:rPr>
              <a:t>Nutzen für Aussteller und Veranstal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Rectangle 9"/>
          <p:cNvSpPr/>
          <p:nvPr/>
        </p:nvSpPr>
        <p:spPr>
          <a:xfrm>
            <a:off x="7848720" y="6308640"/>
            <a:ext cx="838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47D7A-31B4-44AF-A824-1F2E87052A6A}" type="slidenum">
              <a:rPr b="0" lang="de-DE" sz="15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Grafik 3" descr=""/>
          <p:cNvPicPr/>
          <p:nvPr/>
        </p:nvPicPr>
        <p:blipFill>
          <a:blip r:embed="rId1"/>
          <a:stretch/>
        </p:blipFill>
        <p:spPr>
          <a:xfrm>
            <a:off x="250920" y="203040"/>
            <a:ext cx="1116000" cy="525600"/>
          </a:xfrm>
          <a:prstGeom prst="rect">
            <a:avLst/>
          </a:prstGeom>
          <a:ln w="0">
            <a:noFill/>
          </a:ln>
        </p:spPr>
      </p:pic>
      <p:sp>
        <p:nvSpPr>
          <p:cNvPr id="604" name="PlaceHolder 1"/>
          <p:cNvSpPr>
            <a:spLocks noGrp="1"/>
          </p:cNvSpPr>
          <p:nvPr>
            <p:ph type="subTitle"/>
          </p:nvPr>
        </p:nvSpPr>
        <p:spPr>
          <a:xfrm>
            <a:off x="1771560" y="1376280"/>
            <a:ext cx="701352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Die ersten Reaktionen auf die „neue“ FKM sind positiv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Viele Veranstalter weisen bereits stärker als bisher auf ihre Zertifizierung hin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Die  Abrufzahlen der AUMA/FKM-Datenbank steigen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Die Kontaktmöglichkeiten werden von potenziellen Aussteller und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Besuchern genutzt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Textfeld 6"/>
          <p:cNvSpPr/>
          <p:nvPr/>
        </p:nvSpPr>
        <p:spPr>
          <a:xfrm>
            <a:off x="250920" y="620064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a5c34f"/>
                </a:solidFill>
                <a:latin typeface="Calibri"/>
              </a:rPr>
              <a:t>www.fkm.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6" name="Grafik 1" descr=""/>
          <p:cNvPicPr/>
          <p:nvPr/>
        </p:nvPicPr>
        <p:blipFill>
          <a:blip r:embed="rId2"/>
          <a:stretch/>
        </p:blipFill>
        <p:spPr>
          <a:xfrm>
            <a:off x="9360" y="870120"/>
            <a:ext cx="9144000" cy="21888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1771560" y="44280"/>
            <a:ext cx="6904080" cy="84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94382"/>
                </a:solidFill>
                <a:latin typeface="Calibri"/>
              </a:rPr>
              <a:t>Status Qu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Rectangle 9"/>
          <p:cNvSpPr/>
          <p:nvPr/>
        </p:nvSpPr>
        <p:spPr>
          <a:xfrm>
            <a:off x="7848720" y="6308640"/>
            <a:ext cx="838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3BF97-4755-4D19-9316-0A86B9F43458}" type="slidenum">
              <a:rPr b="0" lang="de-DE" sz="15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Grafik 3" descr=""/>
          <p:cNvPicPr/>
          <p:nvPr/>
        </p:nvPicPr>
        <p:blipFill>
          <a:blip r:embed="rId1"/>
          <a:stretch/>
        </p:blipFill>
        <p:spPr>
          <a:xfrm>
            <a:off x="250920" y="203040"/>
            <a:ext cx="1116000" cy="525600"/>
          </a:xfrm>
          <a:prstGeom prst="rect">
            <a:avLst/>
          </a:prstGeom>
          <a:ln w="0">
            <a:noFill/>
          </a:ln>
        </p:spPr>
      </p:pic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1584360" y="1341360"/>
            <a:ext cx="701352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858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Die „neue“ FKM versteht sich als Partner und Dienstleister der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Projekte. Die ersten Reaktionen zeigen, dass die FKM auf dem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richtigen Weg ist!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Gemeinsam sind wir stark!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Die Veranstalter können noch stärker von der „neuen“ FKM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profitieren, wenn si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die Kommunikation der FKM unterstützen un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die Zertifizierung ihrer Messen bekannt machen, z. B.: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45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auf der Projekt-Websi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45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in Ausstellerprospekten/Newsletter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45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auf Eintrittskart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45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auf Presse-Information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45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in Pressekonferenzen und Präsentation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Textfeld 6"/>
          <p:cNvSpPr/>
          <p:nvPr/>
        </p:nvSpPr>
        <p:spPr>
          <a:xfrm>
            <a:off x="250920" y="620064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a5c34f"/>
                </a:solidFill>
                <a:latin typeface="Calibri"/>
              </a:rPr>
              <a:t>www.fkm.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2" name="Grafik 1" descr=""/>
          <p:cNvPicPr/>
          <p:nvPr/>
        </p:nvPicPr>
        <p:blipFill>
          <a:blip r:embed="rId2"/>
          <a:stretch/>
        </p:blipFill>
        <p:spPr>
          <a:xfrm>
            <a:off x="9360" y="870120"/>
            <a:ext cx="9144000" cy="218880"/>
          </a:xfrm>
          <a:prstGeom prst="rect">
            <a:avLst/>
          </a:prstGeom>
          <a:ln w="0">
            <a:noFill/>
          </a:ln>
        </p:spPr>
      </p:pic>
      <p:sp>
        <p:nvSpPr>
          <p:cNvPr id="613" name="PlaceHolder 2"/>
          <p:cNvSpPr>
            <a:spLocks noGrp="1"/>
          </p:cNvSpPr>
          <p:nvPr>
            <p:ph type="title"/>
          </p:nvPr>
        </p:nvSpPr>
        <p:spPr>
          <a:xfrm>
            <a:off x="1771560" y="44280"/>
            <a:ext cx="6904080" cy="84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94382"/>
                </a:solidFill>
                <a:latin typeface="Calibri"/>
              </a:rPr>
              <a:t>Perspekt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Rectangle 9"/>
          <p:cNvSpPr/>
          <p:nvPr/>
        </p:nvSpPr>
        <p:spPr>
          <a:xfrm>
            <a:off x="7848720" y="6308640"/>
            <a:ext cx="838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74B8D-4003-4D91-BB7D-6F69E2C68AD8}" type="slidenum">
              <a:rPr b="0" lang="de-DE" sz="15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5" name="Picture 2" descr="I:\FKM\FKM-Logos\Logo\Logo_jpg\FKM_Logo_mit Kontur_zertifiziert_RGB_rz.jpg"/>
          <p:cNvPicPr/>
          <p:nvPr/>
        </p:nvPicPr>
        <p:blipFill>
          <a:blip r:embed="rId3"/>
          <a:stretch/>
        </p:blipFill>
        <p:spPr>
          <a:xfrm>
            <a:off x="6485040" y="4543560"/>
            <a:ext cx="172404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Grafik 3" descr=""/>
          <p:cNvPicPr/>
          <p:nvPr/>
        </p:nvPicPr>
        <p:blipFill>
          <a:blip r:embed="rId1"/>
          <a:stretch/>
        </p:blipFill>
        <p:spPr>
          <a:xfrm>
            <a:off x="250920" y="203040"/>
            <a:ext cx="1116000" cy="525600"/>
          </a:xfrm>
          <a:prstGeom prst="rect">
            <a:avLst/>
          </a:prstGeom>
          <a:ln w="0">
            <a:noFill/>
          </a:ln>
        </p:spPr>
      </p:pic>
      <p:sp>
        <p:nvSpPr>
          <p:cNvPr id="617" name="Textfeld 6"/>
          <p:cNvSpPr/>
          <p:nvPr/>
        </p:nvSpPr>
        <p:spPr>
          <a:xfrm>
            <a:off x="250920" y="620064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a5c34f"/>
                </a:solidFill>
                <a:latin typeface="Calibri"/>
              </a:rPr>
              <a:t>www.fkm.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8" name="Grafik 1" descr=""/>
          <p:cNvPicPr/>
          <p:nvPr/>
        </p:nvPicPr>
        <p:blipFill>
          <a:blip r:embed="rId2"/>
          <a:stretch/>
        </p:blipFill>
        <p:spPr>
          <a:xfrm>
            <a:off x="9360" y="870120"/>
            <a:ext cx="9144000" cy="218880"/>
          </a:xfrm>
          <a:prstGeom prst="rect">
            <a:avLst/>
          </a:prstGeom>
          <a:ln w="0">
            <a:noFill/>
          </a:ln>
        </p:spPr>
      </p:pic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771560" y="44280"/>
            <a:ext cx="6904080" cy="84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94382"/>
                </a:solidFill>
                <a:latin typeface="Calibri"/>
              </a:rPr>
              <a:t>Kommunik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Rectangle 9"/>
          <p:cNvSpPr/>
          <p:nvPr/>
        </p:nvSpPr>
        <p:spPr>
          <a:xfrm>
            <a:off x="7848720" y="6308640"/>
            <a:ext cx="838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7AE2E-D6F2-4AD6-B8CE-EAE111C1315A}" type="slidenum">
              <a:rPr b="0" lang="de-DE" sz="15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Textfeld 1"/>
          <p:cNvSpPr/>
          <p:nvPr/>
        </p:nvSpPr>
        <p:spPr>
          <a:xfrm>
            <a:off x="431640" y="1233360"/>
            <a:ext cx="82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Anzeigen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             Flashbanner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  Kompaktbann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2" name="Picture 16" descr=""/>
          <p:cNvPicPr/>
          <p:nvPr/>
        </p:nvPicPr>
        <p:blipFill>
          <a:blip r:embed="rId3"/>
          <a:stretch/>
        </p:blipFill>
        <p:spPr>
          <a:xfrm>
            <a:off x="981000" y="1620720"/>
            <a:ext cx="2633760" cy="390204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3" descr=""/>
          <p:cNvPicPr/>
          <p:nvPr/>
        </p:nvPicPr>
        <p:blipFill>
          <a:blip r:embed="rId4"/>
          <a:stretch/>
        </p:blipFill>
        <p:spPr>
          <a:xfrm>
            <a:off x="3949560" y="1620720"/>
            <a:ext cx="1897200" cy="167184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4" descr=""/>
          <p:cNvPicPr/>
          <p:nvPr/>
        </p:nvPicPr>
        <p:blipFill>
          <a:blip r:embed="rId5"/>
          <a:stretch/>
        </p:blipFill>
        <p:spPr>
          <a:xfrm>
            <a:off x="3949560" y="3273480"/>
            <a:ext cx="1897200" cy="224928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12" descr="http://www.fkm.de/klcms2/mediathek/files/mitgliederbereich_downloads/fkm-daten/4.FKM_Flashbanner/5.FKM_Kompaktbanner/deutsch/9840_FKM_Kompaktbanner_sRGB_rz2.gif"/>
          <p:cNvPicPr/>
          <p:nvPr/>
        </p:nvPicPr>
        <p:blipFill>
          <a:blip r:embed="rId6"/>
          <a:stretch/>
        </p:blipFill>
        <p:spPr>
          <a:xfrm>
            <a:off x="6156360" y="162864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14" descr="http://www.fkm.de/klcms2/mediathek/files/mitgliederbereich_downloads/fkm-daten/4.FKM_Flashbanner/5.FKM_Kompaktbanner/deutsch/9840_FKM_Kompaktbanner_sRGB_rz4.gif"/>
          <p:cNvPicPr/>
          <p:nvPr/>
        </p:nvPicPr>
        <p:blipFill>
          <a:blip r:embed="rId7"/>
          <a:stretch/>
        </p:blipFill>
        <p:spPr>
          <a:xfrm>
            <a:off x="6156360" y="3608280"/>
            <a:ext cx="1944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Grafik 3" descr=""/>
          <p:cNvPicPr/>
          <p:nvPr/>
        </p:nvPicPr>
        <p:blipFill>
          <a:blip r:embed="rId1"/>
          <a:stretch/>
        </p:blipFill>
        <p:spPr>
          <a:xfrm>
            <a:off x="250920" y="203040"/>
            <a:ext cx="1116000" cy="525600"/>
          </a:xfrm>
          <a:prstGeom prst="rect">
            <a:avLst/>
          </a:prstGeom>
          <a:ln w="0">
            <a:noFill/>
          </a:ln>
        </p:spPr>
      </p:pic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1771560" y="1268280"/>
            <a:ext cx="701352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Tex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Textfeld 6"/>
          <p:cNvSpPr/>
          <p:nvPr/>
        </p:nvSpPr>
        <p:spPr>
          <a:xfrm>
            <a:off x="250920" y="620064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a5c34f"/>
                </a:solidFill>
                <a:latin typeface="Calibri"/>
              </a:rPr>
              <a:t>www.fkm.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0" name="Grafik 1" descr=""/>
          <p:cNvPicPr/>
          <p:nvPr/>
        </p:nvPicPr>
        <p:blipFill>
          <a:blip r:embed="rId2"/>
          <a:stretch/>
        </p:blipFill>
        <p:spPr>
          <a:xfrm>
            <a:off x="9360" y="870120"/>
            <a:ext cx="9144000" cy="218880"/>
          </a:xfrm>
          <a:prstGeom prst="rect">
            <a:avLst/>
          </a:prstGeom>
          <a:ln w="0">
            <a:noFill/>
          </a:ln>
        </p:spPr>
      </p:pic>
      <p:sp>
        <p:nvSpPr>
          <p:cNvPr id="631" name="PlaceHolder 2"/>
          <p:cNvSpPr>
            <a:spLocks noGrp="1"/>
          </p:cNvSpPr>
          <p:nvPr>
            <p:ph type="title"/>
          </p:nvPr>
        </p:nvSpPr>
        <p:spPr>
          <a:xfrm>
            <a:off x="1771560" y="44280"/>
            <a:ext cx="6904080" cy="84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94382"/>
                </a:solidFill>
                <a:latin typeface="Calibri"/>
              </a:rPr>
              <a:t>Überschrif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Text Box 5"/>
          <p:cNvSpPr/>
          <p:nvPr/>
        </p:nvSpPr>
        <p:spPr>
          <a:xfrm>
            <a:off x="1698480" y="1268280"/>
            <a:ext cx="7013880" cy="4753080"/>
          </a:xfrm>
          <a:prstGeom prst="rect">
            <a:avLst/>
          </a:prstGeom>
          <a:solidFill>
            <a:srgbClr val="a5c3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0" rIns="0" tIns="720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ffffff"/>
                </a:solidFill>
                <a:latin typeface="Tahoma"/>
              </a:rPr>
              <a:t>Vielen Dank für Ihre Aufmerksamkeit!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de-DE" sz="1600" spc="-1" strike="noStrike">
                <a:solidFill>
                  <a:srgbClr val="ffffff"/>
                </a:solidFill>
                <a:latin typeface="Tahoma"/>
              </a:rPr>
              <a:t>Harald Kötter | 030 24 000 140 | info@fkm.d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Rectangle 9"/>
          <p:cNvSpPr/>
          <p:nvPr/>
        </p:nvSpPr>
        <p:spPr>
          <a:xfrm>
            <a:off x="7848720" y="6308640"/>
            <a:ext cx="838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BB69C-AE7E-4F23-A2EA-2BF12661936F}" type="slidenum">
              <a:rPr b="0" lang="de-DE" sz="15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Grafik 3" descr=""/>
          <p:cNvPicPr/>
          <p:nvPr/>
        </p:nvPicPr>
        <p:blipFill>
          <a:blip r:embed="rId1"/>
          <a:stretch/>
        </p:blipFill>
        <p:spPr>
          <a:xfrm>
            <a:off x="250920" y="203040"/>
            <a:ext cx="1116000" cy="525600"/>
          </a:xfrm>
          <a:prstGeom prst="rect">
            <a:avLst/>
          </a:prstGeom>
          <a:ln w="0">
            <a:noFill/>
          </a:ln>
        </p:spPr>
      </p:pic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1771560" y="1268280"/>
            <a:ext cx="701352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858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Struktur der FKM</a:t>
            </a:r>
            <a:br>
              <a:rPr sz="1800"/>
            </a:br>
            <a:r>
              <a:rPr b="0" lang="de-DE" sz="1800" spc="-1" strike="noStrike">
                <a:solidFill>
                  <a:srgbClr val="4f81bd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Selbstverständnis der FK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Was zertifiziert die FKM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Interessen der Gesellschafter und deren Kunden</a:t>
            </a:r>
            <a:br>
              <a:rPr sz="1800"/>
            </a:br>
            <a:r>
              <a:rPr b="0" lang="de-DE" sz="1800" spc="-1" strike="noStrike">
                <a:solidFill>
                  <a:srgbClr val="194382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Nutzen der FKM für Aussteller und Veranstalter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Textfeld 6"/>
          <p:cNvSpPr/>
          <p:nvPr/>
        </p:nvSpPr>
        <p:spPr>
          <a:xfrm>
            <a:off x="250920" y="620064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a5c34f"/>
                </a:solidFill>
                <a:latin typeface="Calibri"/>
              </a:rPr>
              <a:t>www.fkm.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2" name="Grafik 1" descr=""/>
          <p:cNvPicPr/>
          <p:nvPr/>
        </p:nvPicPr>
        <p:blipFill>
          <a:blip r:embed="rId2"/>
          <a:stretch/>
        </p:blipFill>
        <p:spPr>
          <a:xfrm>
            <a:off x="9360" y="870120"/>
            <a:ext cx="9144000" cy="218880"/>
          </a:xfrm>
          <a:prstGeom prst="rect">
            <a:avLst/>
          </a:prstGeom>
          <a:ln w="0">
            <a:noFill/>
          </a:ln>
        </p:spPr>
      </p:pic>
      <p:sp>
        <p:nvSpPr>
          <p:cNvPr id="543" name="PlaceHolder 2"/>
          <p:cNvSpPr>
            <a:spLocks noGrp="1"/>
          </p:cNvSpPr>
          <p:nvPr>
            <p:ph type="title"/>
          </p:nvPr>
        </p:nvSpPr>
        <p:spPr>
          <a:xfrm>
            <a:off x="1771560" y="44280"/>
            <a:ext cx="6904080" cy="84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94382"/>
                </a:solidFill>
                <a:latin typeface="Calibri"/>
              </a:rPr>
              <a:t>Gliederu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Rectangle 9"/>
          <p:cNvSpPr/>
          <p:nvPr/>
        </p:nvSpPr>
        <p:spPr>
          <a:xfrm>
            <a:off x="7848720" y="6308640"/>
            <a:ext cx="838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BBF66-E16D-4E8F-8903-5608886EE201}" type="slidenum">
              <a:rPr b="0" lang="de-DE" sz="15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Grafik 3" descr=""/>
          <p:cNvPicPr/>
          <p:nvPr/>
        </p:nvPicPr>
        <p:blipFill>
          <a:blip r:embed="rId1"/>
          <a:stretch/>
        </p:blipFill>
        <p:spPr>
          <a:xfrm>
            <a:off x="250920" y="203040"/>
            <a:ext cx="1116000" cy="525600"/>
          </a:xfrm>
          <a:prstGeom prst="rect">
            <a:avLst/>
          </a:prstGeom>
          <a:ln w="0">
            <a:noFill/>
          </a:ln>
        </p:spPr>
      </p:pic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1771560" y="1268280"/>
            <a:ext cx="701352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Die FKM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Rund 60 deutsche Veranstalter sind Gesellschafter</a:t>
            </a:r>
            <a:br>
              <a:rPr sz="1800"/>
            </a:br>
            <a:r>
              <a:rPr b="0" lang="de-DE" sz="1800" spc="-1" strike="noStrike">
                <a:solidFill>
                  <a:srgbClr val="194382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Einzige deutsche Zertifizierungsorganisation für Messezahlen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Rund 200 Messen pro Jahr werden zertifiziert, für fast 80 %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der Messen liegen auch Besucheranalysen vor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Zertifizierung durch namhaften Wirtschaftsprüfer, Ernst &amp; Young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Geschäftsführung beim AUMA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Textfeld 6"/>
          <p:cNvSpPr/>
          <p:nvPr/>
        </p:nvSpPr>
        <p:spPr>
          <a:xfrm>
            <a:off x="250920" y="620064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a5c34f"/>
                </a:solidFill>
                <a:latin typeface="Calibri"/>
              </a:rPr>
              <a:t>www.fkm.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8" name="Grafik 1" descr=""/>
          <p:cNvPicPr/>
          <p:nvPr/>
        </p:nvPicPr>
        <p:blipFill>
          <a:blip r:embed="rId2"/>
          <a:stretch/>
        </p:blipFill>
        <p:spPr>
          <a:xfrm>
            <a:off x="9360" y="870120"/>
            <a:ext cx="9144000" cy="218880"/>
          </a:xfrm>
          <a:prstGeom prst="rect">
            <a:avLst/>
          </a:prstGeom>
          <a:ln w="0">
            <a:noFill/>
          </a:ln>
        </p:spPr>
      </p:pic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1771560" y="44280"/>
            <a:ext cx="6904080" cy="84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94382"/>
                </a:solidFill>
                <a:latin typeface="Calibri"/>
              </a:rPr>
              <a:t>Struktur der FK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7848720" y="6308640"/>
            <a:ext cx="838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43C11-9D9D-4F8E-A408-A84807838FC4}" type="slidenum">
              <a:rPr b="0" lang="de-DE" sz="15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Grafik 3" descr=""/>
          <p:cNvPicPr/>
          <p:nvPr/>
        </p:nvPicPr>
        <p:blipFill>
          <a:blip r:embed="rId1"/>
          <a:stretch/>
        </p:blipFill>
        <p:spPr>
          <a:xfrm>
            <a:off x="250920" y="203040"/>
            <a:ext cx="1116000" cy="525600"/>
          </a:xfrm>
          <a:prstGeom prst="rect">
            <a:avLst/>
          </a:prstGeom>
          <a:ln w="0">
            <a:noFill/>
          </a:ln>
        </p:spPr>
      </p:pic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1771560" y="1267920"/>
            <a:ext cx="7013520" cy="47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Seit 2012 setzt die FKM ihr neues Selbstverständnis in die Praxis um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Die „neue“ FKM versteht sich als aktiver Partner und Dienstleister ihrer Gesellschafter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Die FKM hat erkannt: nur Zählen, Prüfen und Bereitstellen von Daten reicht nicht mehr. Inhalte und Nutzen werden offensiver kommuniziert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Hauptzielgruppe: Ausstellende Unternehmen, Ansprache direkt und über die Projekte der Gesellschaf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Datenangebot und Art der Veröffentlichung werden regelmäßig überprüft - Im Vordergrund: Zielgruppenorientierung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Alle Gesellschafter  können durch eigene Ideen und Vorschläge die „neue“ FKM aktiv  mitgestalt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Textfeld 6"/>
          <p:cNvSpPr/>
          <p:nvPr/>
        </p:nvSpPr>
        <p:spPr>
          <a:xfrm>
            <a:off x="250920" y="620064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a5c34f"/>
                </a:solidFill>
                <a:latin typeface="Calibri"/>
              </a:rPr>
              <a:t>www.fkm.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4" name="Grafik 1" descr=""/>
          <p:cNvPicPr/>
          <p:nvPr/>
        </p:nvPicPr>
        <p:blipFill>
          <a:blip r:embed="rId2"/>
          <a:stretch/>
        </p:blipFill>
        <p:spPr>
          <a:xfrm>
            <a:off x="9360" y="870120"/>
            <a:ext cx="9144000" cy="21888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2"/>
          <p:cNvSpPr>
            <a:spLocks noGrp="1"/>
          </p:cNvSpPr>
          <p:nvPr>
            <p:ph type="title"/>
          </p:nvPr>
        </p:nvSpPr>
        <p:spPr>
          <a:xfrm>
            <a:off x="1771560" y="44280"/>
            <a:ext cx="6904080" cy="84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94382"/>
                </a:solidFill>
                <a:latin typeface="Calibri"/>
              </a:rPr>
              <a:t>Selbstverständnis der FK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Rectangle 9"/>
          <p:cNvSpPr/>
          <p:nvPr/>
        </p:nvSpPr>
        <p:spPr>
          <a:xfrm>
            <a:off x="7848720" y="6308640"/>
            <a:ext cx="838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D928A-4F68-48EB-BC14-C1F9F13EF2E4}" type="slidenum">
              <a:rPr b="0" lang="de-DE" sz="15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Grafik 3" descr=""/>
          <p:cNvPicPr/>
          <p:nvPr/>
        </p:nvPicPr>
        <p:blipFill>
          <a:blip r:embed="rId1"/>
          <a:stretch/>
        </p:blipFill>
        <p:spPr>
          <a:xfrm>
            <a:off x="250920" y="203040"/>
            <a:ext cx="1116000" cy="525600"/>
          </a:xfrm>
          <a:prstGeom prst="rect">
            <a:avLst/>
          </a:prstGeom>
          <a:ln w="0">
            <a:noFill/>
          </a:ln>
        </p:spPr>
      </p:pic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1771560" y="1268280"/>
            <a:ext cx="701352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858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Erste Maßnahmen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Einführung des Begriffs Zertifizierung als Gütesiegel für Messen 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und Entwicklung entsprechender Werbemittel</a:t>
            </a:r>
            <a:br>
              <a:rPr sz="1600"/>
            </a:b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Die AUMA/FKM-Datenbank bietet potentiellen Ausstellern bei zertifizierten Veranstaltungen direkten Kontakt zum Veranstalter </a:t>
            </a: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(Kontaktformular für Informationswünsche und Fragen) </a:t>
            </a:r>
            <a:br>
              <a:rPr sz="1800"/>
            </a:br>
            <a:r>
              <a:rPr b="0" i="1" lang="de-DE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Textfeld 6"/>
          <p:cNvSpPr/>
          <p:nvPr/>
        </p:nvSpPr>
        <p:spPr>
          <a:xfrm>
            <a:off x="250920" y="620064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a5c34f"/>
                </a:solidFill>
                <a:latin typeface="Calibri"/>
              </a:rPr>
              <a:t>www.fkm.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0" name="Grafik 1" descr=""/>
          <p:cNvPicPr/>
          <p:nvPr/>
        </p:nvPicPr>
        <p:blipFill>
          <a:blip r:embed="rId2"/>
          <a:stretch/>
        </p:blipFill>
        <p:spPr>
          <a:xfrm>
            <a:off x="9360" y="870120"/>
            <a:ext cx="9144000" cy="218880"/>
          </a:xfrm>
          <a:prstGeom prst="rect">
            <a:avLst/>
          </a:prstGeom>
          <a:ln w="0">
            <a:noFill/>
          </a:ln>
        </p:spPr>
      </p:pic>
      <p:sp>
        <p:nvSpPr>
          <p:cNvPr id="561" name="PlaceHolder 2"/>
          <p:cNvSpPr>
            <a:spLocks noGrp="1"/>
          </p:cNvSpPr>
          <p:nvPr>
            <p:ph type="title"/>
          </p:nvPr>
        </p:nvSpPr>
        <p:spPr>
          <a:xfrm>
            <a:off x="1771560" y="44280"/>
            <a:ext cx="6904080" cy="84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94382"/>
                </a:solidFill>
                <a:latin typeface="Calibri"/>
              </a:rPr>
              <a:t>Selbstverständnis der FK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Rectangle 9"/>
          <p:cNvSpPr/>
          <p:nvPr/>
        </p:nvSpPr>
        <p:spPr>
          <a:xfrm>
            <a:off x="7848720" y="6308640"/>
            <a:ext cx="838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B1902-3C75-443F-ABC1-F9CB1CB544F1}" type="slidenum">
              <a:rPr b="0" lang="de-DE" sz="15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3" name="Grafik 2" descr=""/>
          <p:cNvPicPr/>
          <p:nvPr/>
        </p:nvPicPr>
        <p:blipFill>
          <a:blip r:embed="rId3"/>
          <a:stretch/>
        </p:blipFill>
        <p:spPr>
          <a:xfrm>
            <a:off x="2131920" y="3713040"/>
            <a:ext cx="4816440" cy="26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Grafik 3" descr=""/>
          <p:cNvPicPr/>
          <p:nvPr/>
        </p:nvPicPr>
        <p:blipFill>
          <a:blip r:embed="rId1"/>
          <a:stretch/>
        </p:blipFill>
        <p:spPr>
          <a:xfrm>
            <a:off x="250920" y="203040"/>
            <a:ext cx="1116000" cy="525600"/>
          </a:xfrm>
          <a:prstGeom prst="rect">
            <a:avLst/>
          </a:prstGeom>
          <a:ln w="0">
            <a:noFill/>
          </a:ln>
        </p:spPr>
      </p:pic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1800360" y="1179360"/>
            <a:ext cx="7013520" cy="44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858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Zahl der Aussteller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Standflächen und Bruttoflächen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Zahl der Besucher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Besucherstruktur-Analysen </a:t>
            </a:r>
            <a:br>
              <a:rPr sz="1800"/>
            </a:b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(10 Standardfragen)</a:t>
            </a:r>
            <a:br>
              <a:rPr sz="1600"/>
            </a:b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Veröffentlichung in Print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und online durch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FKM, AUMA, Veranstal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Textfeld 6"/>
          <p:cNvSpPr/>
          <p:nvPr/>
        </p:nvSpPr>
        <p:spPr>
          <a:xfrm>
            <a:off x="250920" y="620064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a5c34f"/>
                </a:solidFill>
                <a:latin typeface="Calibri"/>
              </a:rPr>
              <a:t>www.fkm.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7" name="Grafik 1" descr=""/>
          <p:cNvPicPr/>
          <p:nvPr/>
        </p:nvPicPr>
        <p:blipFill>
          <a:blip r:embed="rId2"/>
          <a:stretch/>
        </p:blipFill>
        <p:spPr>
          <a:xfrm>
            <a:off x="9360" y="870120"/>
            <a:ext cx="9144000" cy="218880"/>
          </a:xfrm>
          <a:prstGeom prst="rect">
            <a:avLst/>
          </a:prstGeom>
          <a:ln w="0">
            <a:noFill/>
          </a:ln>
        </p:spPr>
      </p:pic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1771560" y="44280"/>
            <a:ext cx="6904080" cy="84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94382"/>
                </a:solidFill>
                <a:latin typeface="Calibri"/>
              </a:rPr>
              <a:t>Was zertifiziert die FKM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Rectangle 9"/>
          <p:cNvSpPr/>
          <p:nvPr/>
        </p:nvSpPr>
        <p:spPr>
          <a:xfrm>
            <a:off x="7848720" y="6308640"/>
            <a:ext cx="838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8A779-79CE-4EEE-973E-B20129ED0E8D}" type="slidenum">
              <a:rPr b="0" lang="de-DE" sz="15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Eingekerbter Richtungspfeil 1"/>
          <p:cNvSpPr/>
          <p:nvPr/>
        </p:nvSpPr>
        <p:spPr>
          <a:xfrm>
            <a:off x="2124000" y="3933720"/>
            <a:ext cx="468360" cy="71640"/>
          </a:xfrm>
          <a:custGeom>
            <a:avLst/>
            <a:gdLst>
              <a:gd name="textAreaLeft" fmla="*/ 0 w 468360"/>
              <a:gd name="textAreaRight" fmla="*/ 468720 w 468360"/>
              <a:gd name="textAreaTop" fmla="*/ 0 h 71640"/>
              <a:gd name="textAreaBottom" fmla="*/ 72000 h 7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53" y="0"/>
                </a:lnTo>
                <a:lnTo>
                  <a:pt x="21600" y="10800"/>
                </a:lnTo>
                <a:lnTo>
                  <a:pt x="19953" y="21600"/>
                </a:lnTo>
                <a:lnTo>
                  <a:pt x="0" y="21600"/>
                </a:lnTo>
                <a:lnTo>
                  <a:pt x="1647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Grafik 3" descr=""/>
          <p:cNvPicPr/>
          <p:nvPr/>
        </p:nvPicPr>
        <p:blipFill>
          <a:blip r:embed="rId3"/>
          <a:stretch/>
        </p:blipFill>
        <p:spPr>
          <a:xfrm>
            <a:off x="5665680" y="1268280"/>
            <a:ext cx="2506680" cy="45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Grafik 3" descr=""/>
          <p:cNvPicPr/>
          <p:nvPr/>
        </p:nvPicPr>
        <p:blipFill>
          <a:blip r:embed="rId1"/>
          <a:stretch/>
        </p:blipFill>
        <p:spPr>
          <a:xfrm>
            <a:off x="250920" y="203040"/>
            <a:ext cx="1116000" cy="52560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subTitle"/>
          </p:nvPr>
        </p:nvSpPr>
        <p:spPr>
          <a:xfrm>
            <a:off x="1771560" y="1268280"/>
            <a:ext cx="701352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Interessen der Veranstalter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(Potenzielle) Aussteller vom Nutzen ihrer Messen überzeugen,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nämlich, dass die „richtigen“ Besucher kommen werden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(Potenzielle) Besucher von ihren Messen überzeugen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Erfolg einer Messe nachweisen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Aussteller und Besucher zur Wiederbeteiligung beweg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Projekte optimal vermarkten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Textfeld 6"/>
          <p:cNvSpPr/>
          <p:nvPr/>
        </p:nvSpPr>
        <p:spPr>
          <a:xfrm>
            <a:off x="250920" y="620064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a5c34f"/>
                </a:solidFill>
                <a:latin typeface="Calibri"/>
              </a:rPr>
              <a:t>www.fkm.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5" name="Grafik 1" descr=""/>
          <p:cNvPicPr/>
          <p:nvPr/>
        </p:nvPicPr>
        <p:blipFill>
          <a:blip r:embed="rId2"/>
          <a:stretch/>
        </p:blipFill>
        <p:spPr>
          <a:xfrm>
            <a:off x="9360" y="870120"/>
            <a:ext cx="9144000" cy="218880"/>
          </a:xfrm>
          <a:prstGeom prst="rect">
            <a:avLst/>
          </a:prstGeom>
          <a:ln w="0">
            <a:noFill/>
          </a:ln>
        </p:spPr>
      </p:pic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1771560" y="44280"/>
            <a:ext cx="6904080" cy="84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de-DE" sz="1800" spc="-1" strike="noStrike">
                <a:solidFill>
                  <a:srgbClr val="194382"/>
                </a:solidFill>
                <a:latin typeface="Calibri"/>
              </a:rPr>
              <a:t>Interessen der Gesellschafter und deren Kunden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Rectangle 9"/>
          <p:cNvSpPr/>
          <p:nvPr/>
        </p:nvSpPr>
        <p:spPr>
          <a:xfrm>
            <a:off x="7848720" y="6308640"/>
            <a:ext cx="838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FE4EF-704E-4915-8040-85B5E738AD27}" type="slidenum">
              <a:rPr b="0" lang="de-DE" sz="15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Eingekerbter Richtungspfeil 7"/>
          <p:cNvSpPr/>
          <p:nvPr/>
        </p:nvSpPr>
        <p:spPr>
          <a:xfrm>
            <a:off x="2050920" y="4761000"/>
            <a:ext cx="505080" cy="71280"/>
          </a:xfrm>
          <a:custGeom>
            <a:avLst/>
            <a:gdLst>
              <a:gd name="textAreaLeft" fmla="*/ 0 w 505080"/>
              <a:gd name="textAreaRight" fmla="*/ 505440 w 50508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072" y="0"/>
                </a:lnTo>
                <a:lnTo>
                  <a:pt x="21600" y="10800"/>
                </a:lnTo>
                <a:lnTo>
                  <a:pt x="20072" y="21600"/>
                </a:lnTo>
                <a:lnTo>
                  <a:pt x="0" y="21600"/>
                </a:lnTo>
                <a:lnTo>
                  <a:pt x="1528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Grafik 3" descr=""/>
          <p:cNvPicPr/>
          <p:nvPr/>
        </p:nvPicPr>
        <p:blipFill>
          <a:blip r:embed="rId1"/>
          <a:stretch/>
        </p:blipFill>
        <p:spPr>
          <a:xfrm>
            <a:off x="250920" y="203040"/>
            <a:ext cx="1116000" cy="525600"/>
          </a:xfrm>
          <a:prstGeom prst="rect">
            <a:avLst/>
          </a:prstGeom>
          <a:ln w="0">
            <a:noFill/>
          </a:ln>
        </p:spPr>
      </p:pic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1771560" y="1268280"/>
            <a:ext cx="701352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Interessen der Aussteller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erkennen, auf welcher Messe die richtigen Zielgruppen vertreten sind (qualitativ und quantitativ)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Messen auf gesicherter Basis auswählen für Erstbeteiligung, für Wiederbeteiligung, auch zur hausinternen Rechtfertigung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eigene Beteiligung am Gesamtergebnis einer Messe mess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Textfeld 6"/>
          <p:cNvSpPr/>
          <p:nvPr/>
        </p:nvSpPr>
        <p:spPr>
          <a:xfrm>
            <a:off x="250920" y="620064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a5c34f"/>
                </a:solidFill>
                <a:latin typeface="Calibri"/>
              </a:rPr>
              <a:t>www.fkm.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2" name="Grafik 1" descr=""/>
          <p:cNvPicPr/>
          <p:nvPr/>
        </p:nvPicPr>
        <p:blipFill>
          <a:blip r:embed="rId2"/>
          <a:stretch/>
        </p:blipFill>
        <p:spPr>
          <a:xfrm>
            <a:off x="9360" y="870120"/>
            <a:ext cx="9144000" cy="218880"/>
          </a:xfrm>
          <a:prstGeom prst="rect">
            <a:avLst/>
          </a:prstGeom>
          <a:ln w="0">
            <a:noFill/>
          </a:ln>
        </p:spPr>
      </p:pic>
      <p:sp>
        <p:nvSpPr>
          <p:cNvPr id="583" name="PlaceHolder 2"/>
          <p:cNvSpPr>
            <a:spLocks noGrp="1"/>
          </p:cNvSpPr>
          <p:nvPr>
            <p:ph type="title"/>
          </p:nvPr>
        </p:nvSpPr>
        <p:spPr>
          <a:xfrm>
            <a:off x="1771560" y="44280"/>
            <a:ext cx="6904080" cy="84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de-DE" sz="1800" spc="-1" strike="noStrike">
                <a:solidFill>
                  <a:srgbClr val="194382"/>
                </a:solidFill>
                <a:latin typeface="Calibri"/>
              </a:rPr>
              <a:t>Interessen der Gesellschafter und deren Kunden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Rectangle 9"/>
          <p:cNvSpPr/>
          <p:nvPr/>
        </p:nvSpPr>
        <p:spPr>
          <a:xfrm>
            <a:off x="7848720" y="6308640"/>
            <a:ext cx="838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43F39-5A18-44FB-A1CE-2E9B25178DCE}" type="slidenum">
              <a:rPr b="0" lang="de-DE" sz="15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Grafik 3" descr=""/>
          <p:cNvPicPr/>
          <p:nvPr/>
        </p:nvPicPr>
        <p:blipFill>
          <a:blip r:embed="rId1"/>
          <a:stretch/>
        </p:blipFill>
        <p:spPr>
          <a:xfrm>
            <a:off x="250920" y="203040"/>
            <a:ext cx="1116000" cy="525600"/>
          </a:xfrm>
          <a:prstGeom prst="rect">
            <a:avLst/>
          </a:prstGeom>
          <a:ln w="0">
            <a:noFill/>
          </a:ln>
        </p:spPr>
      </p:pic>
      <p:sp>
        <p:nvSpPr>
          <p:cNvPr id="586" name="PlaceHolder 1"/>
          <p:cNvSpPr>
            <a:spLocks noGrp="1"/>
          </p:cNvSpPr>
          <p:nvPr>
            <p:ph type="subTitle"/>
          </p:nvPr>
        </p:nvSpPr>
        <p:spPr>
          <a:xfrm>
            <a:off x="1771560" y="1267920"/>
            <a:ext cx="70135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FKM-Daten erleichtern dem Aussteller Entscheidungen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für das Instrument Messe generell </a:t>
            </a:r>
            <a:br>
              <a:rPr sz="1800"/>
            </a:b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(denn er ist gewohnt, dass andere Medien geprüfte Daten</a:t>
            </a:r>
            <a:br>
              <a:rPr sz="1600"/>
            </a:br>
            <a:r>
              <a:rPr b="0" i="1" lang="de-DE" sz="1600" spc="-1" strike="noStrike">
                <a:solidFill>
                  <a:srgbClr val="000000"/>
                </a:solidFill>
                <a:latin typeface="Calibri"/>
              </a:rPr>
              <a:t>anbieten – Zeitschriften, Onlin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für eine bestimmte, die für ihn „richtige“ Messe</a:t>
            </a:r>
            <a:br>
              <a:rPr sz="1800"/>
            </a:b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alibri"/>
              </a:rPr>
              <a:t>FKM-Daten helfen dem Aussteller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seine Messeplanung auf eine rationale Basis zu stell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im Vorfeld der Veranstaltung zu prüfen, ob „seine“ Zielgruppen vertreten si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den Erfolg seiner Marketing-Maßnahmen an der Struktur der Gesamtbesucher zu messen (z. B. bei Einladungsaktionen)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Textfeld 6"/>
          <p:cNvSpPr/>
          <p:nvPr/>
        </p:nvSpPr>
        <p:spPr>
          <a:xfrm>
            <a:off x="250920" y="620064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a5c34f"/>
                </a:solidFill>
                <a:latin typeface="Calibri"/>
              </a:rPr>
              <a:t>www.fkm.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8" name="Grafik 1" descr=""/>
          <p:cNvPicPr/>
          <p:nvPr/>
        </p:nvPicPr>
        <p:blipFill>
          <a:blip r:embed="rId2"/>
          <a:stretch/>
        </p:blipFill>
        <p:spPr>
          <a:xfrm>
            <a:off x="9360" y="870120"/>
            <a:ext cx="9144000" cy="218880"/>
          </a:xfrm>
          <a:prstGeom prst="rect">
            <a:avLst/>
          </a:prstGeom>
          <a:ln w="0">
            <a:noFill/>
          </a:ln>
        </p:spPr>
      </p:pic>
      <p:sp>
        <p:nvSpPr>
          <p:cNvPr id="589" name="PlaceHolder 2"/>
          <p:cNvSpPr>
            <a:spLocks noGrp="1"/>
          </p:cNvSpPr>
          <p:nvPr>
            <p:ph type="title"/>
          </p:nvPr>
        </p:nvSpPr>
        <p:spPr>
          <a:xfrm>
            <a:off x="1771560" y="44280"/>
            <a:ext cx="6904080" cy="84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94382"/>
                </a:solidFill>
                <a:latin typeface="Calibri"/>
              </a:rPr>
              <a:t>Nutzen für Ausstell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7848720" y="6308640"/>
            <a:ext cx="838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A094F-7D4F-4643-BB3C-D87EBF36FDE0}" type="slidenum">
              <a:rPr b="0" lang="de-DE" sz="15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7T08:42:13Z</dcterms:created>
  <dc:creator>Käpernick, Annett</dc:creator>
  <dc:description/>
  <dc:language>en-US</dc:language>
  <cp:lastModifiedBy>Käpernick, Annett</cp:lastModifiedBy>
  <cp:lastPrinted>2013-07-12T06:32:57Z</cp:lastPrinted>
  <dcterms:modified xsi:type="dcterms:W3CDTF">2013-07-12T06:34:15Z</dcterms:modified>
  <cp:revision>84</cp:revision>
  <dc:subject/>
  <dc:title>Gesellschaft zur Freiwilligen Kontrolle von Messe- und Ausstellungszahlen</dc:title>
</cp:coreProperties>
</file>